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1.wmf" ContentType="image/x-wmf"/>
  <Override PartName="/ppt/media/image9.wmf" ContentType="image/x-wmf"/>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2.jpeg" ContentType="image/jpeg"/>
  <Override PartName="/ppt/media/image6.jpeg" ContentType="image/jpeg"/>
  <Override PartName="/ppt/media/image7.jpeg" ContentType="image/jpeg"/>
  <Override PartName="/ppt/media/image10.wmf" ContentType="image/x-wmf"/>
  <Override PartName="/ppt/media/image4.jpeg" ContentType="image/jpeg"/>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5576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576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328640"/>
            <a:ext cx="5486400" cy="4103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59800"/>
            <a:ext cx="2971800" cy="4557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59800"/>
            <a:ext cx="2971800" cy="4557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4A4663-F085-4E02-B893-919C417E6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927080" y="422280"/>
            <a:ext cx="3062520" cy="2297160"/>
          </a:xfrm>
          <a:prstGeom prst="rect">
            <a:avLst/>
          </a:prstGeom>
          <a:ln w="0">
            <a:noFill/>
          </a:ln>
        </p:spPr>
      </p:sp>
      <p:sp>
        <p:nvSpPr>
          <p:cNvPr id="167" name="PlaceHolder 2"/>
          <p:cNvSpPr>
            <a:spLocks noGrp="1"/>
          </p:cNvSpPr>
          <p:nvPr>
            <p:ph type="body"/>
          </p:nvPr>
        </p:nvSpPr>
        <p:spPr>
          <a:xfrm>
            <a:off x="685800" y="2949120"/>
            <a:ext cx="5486400" cy="548316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 coordinator should possess the gifts of hospitality and administration to coordinate social events and meetings to which the missing members will be invited. She should be a woman with a burden for missing members, who will reach out and build friendships with them. This person should be a loving and non-judgmental person who can see past the lifestyle choices missing members make. Besides teas and other special meals, missing members may respond well to meetings about topics of interest to women such as rape prevention, women’s health issues, and low-fat or vegetarian cook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leaders an integral part of the reclaiming ministry team are the women who become mentors.  The job of the mentors is to make contact with the women to be reclaimed and literally love them back into the church.  Ideally, each mentor should try to mentor no more than two missing members at a time, although one is best.  The mentor becomes a friend of the woman she is paired with and makes an open-ended commitment to continue the friendship as long as the other woman is willing to be friends—whether or not she ever returns to church.  This unconditional friendship is key to reclaiming the missing member.  She needs to experience the unconditional love of Jesus in human flesh—the mento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he mentors is an important job for the ministry leader.  Mentors must be non-judgmental women who are good listeners and who have a good relationship with God themselves.  Not everyone on the team is qualified for this all-important role.  Team members who have difficulty being loving, accepting, and non-judgmental should be given other assignments on the ministry team instead of being mentors.  When visiting with the women to be reclaimed, mentors will likely encounter lifestyles and practices that are at odds with church beliefs.  They must be able to love the missing member in spite of this and not lecture her about church standards or other issues.  Lectures will repel; love will win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most people do not leave the Adventist church because of doctrine.  Many leave because their feelings were hurt, or because of illness or other circumstances. (They were absent for a long period of time and stopped coming at all.)  But they generally don’t leave the church over doctrines.  That is why lectures about standards or doctrines do more harm than goo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body"/>
          </p:nvPr>
        </p:nvSpPr>
        <p:spPr>
          <a:xfrm>
            <a:off x="685800" y="574560"/>
            <a:ext cx="5486400" cy="7858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the power of love and acceptance is found in the Luke 19:2-9 account of Zacchaeus, the chief tax collector, who wanted to see Jesus when He passed through Jericho.  As a tax collector, Zacchaeus was an outcast of society because of the many people he had cheated.  But Zacchaeus wanted to see Jesus more than anything, and since he was short, he climbed into a tree to get a good view as Jesus passed along the road be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sus, of course, knew all about Zacchaeus, and He looked right up into the tree and told Zacchaeus to come down because He was going to stay at his house that very day!  What an honor Jesus bestowed on a despised tax coll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Jesus didn’t tell Zacchaeus that He would go to his home if he repented of his cheating and repaid what he had taken from people.  No, Jesus read his heart and accepted Zacchaeus as he was.  But in response to such love and acceptance, observe what Zacchaeus did.  He immediately pledged to give half of his possessions to the poor and to repay four-fold the money he had cheated people ou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ory illustrates a truth that is essential in reclaiming ministries.  People respond to love and friendship.  That’s why it is essential to have mentors who are good at befriending people and who are non-judgment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833480" y="650880"/>
            <a:ext cx="3022560" cy="2266920"/>
          </a:xfrm>
          <a:prstGeom prst="rect">
            <a:avLst/>
          </a:prstGeom>
          <a:ln w="0">
            <a:noFill/>
          </a:ln>
        </p:spPr>
      </p:sp>
      <p:sp>
        <p:nvSpPr>
          <p:cNvPr id="170" name="PlaceHolder 2"/>
          <p:cNvSpPr>
            <a:spLocks noGrp="1"/>
          </p:cNvSpPr>
          <p:nvPr>
            <p:ph type="body"/>
          </p:nvPr>
        </p:nvSpPr>
        <p:spPr>
          <a:xfrm>
            <a:off x="685800" y="3025440"/>
            <a:ext cx="5486400" cy="540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LAIMING MINISTRY TEAM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organization and training are key ingredients to the success of a reclaiming ministry.  Your reclaiming ministry team needs to meet several times as you begin the ministry and regularly throughout the time the reclaiming process is carried out.  Meeting times can vary.  You may meet in a home with refreshments for a couple of hours.  At other times you may meet right after church for 15-20 minutes.  You might also want to meet for an hour during the Sabbath School lesson stud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entation and training can be accomplished in 4-12 meetings, depending on the time you have and the amount of material you wish to cover.  The larger your church and the more women involved, the more meetings you will n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make the team meetings social as well as spiritual in nature.  Fellowship builds camaraderie.  But remember to keep sight of the reason for the meeting and don’t get sidetracked.  You will want to cover the entire agenda in the allotted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general guidelines for all reclaiming ministry team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clude a prayer session in each meeting.  Encourage the women to pray for their own needs as well as the needs of the women they are reclai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part of each meeting hearing reports from mentors about how it’s been going in building friendships with the women who have quit coming to church.  During this time it is important to treat the missing member as a true friend and not reveal things she has told you in conf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 to the data coordinator contacts made by the mentors with the missing members as well as progress reports on the missing members.  Include items such as whether they are taking Bible studies, attending a church service or social event, being rebaptized, or returning to church membership by profession of faith.  There should be regular progress reports for everyone on your list of missing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ending the meeting, make plans for the next meeting (time, place, etc.)</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833480" y="727200"/>
            <a:ext cx="3270240" cy="2452680"/>
          </a:xfrm>
          <a:prstGeom prst="rect">
            <a:avLst/>
          </a:prstGeom>
          <a:ln w="0">
            <a:noFill/>
          </a:ln>
        </p:spPr>
      </p:sp>
      <p:sp>
        <p:nvSpPr>
          <p:cNvPr id="172"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ffective ministry team needs to do the follow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firm the leader and support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 clear lines of communication—get phone numbers and/or e-mail addresses so team members can be conta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boundaries.  Be on time for meetings, start on time, and end o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l with conflicts that may arise—don’t ignore them.  Direct concerns to the individual(s) involved, not behind their back.  This is important because people often leave the church over the mishandling of a conflict.  Therefore, it is important for the reclaiming ministry team to practice good conflict management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98680" y="574560"/>
            <a:ext cx="3840120" cy="2880000"/>
          </a:xfrm>
          <a:prstGeom prst="rect">
            <a:avLst/>
          </a:prstGeom>
          <a:ln w="0">
            <a:noFill/>
          </a:ln>
        </p:spPr>
      </p:sp>
      <p:sp>
        <p:nvSpPr>
          <p:cNvPr id="174" name="PlaceHolder 2"/>
          <p:cNvSpPr>
            <a:spLocks noGrp="1"/>
          </p:cNvSpPr>
          <p:nvPr>
            <p:ph type="body"/>
          </p:nvPr>
        </p:nvSpPr>
        <p:spPr>
          <a:xfrm>
            <a:off x="685800" y="3486240"/>
            <a:ext cx="5486400" cy="494640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IENTATION / TRAINING SUBJECTS TO BE COVERED IN RECLAIMING MINISTRIES TEAM MEET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ch of these four topics may be covered in 1-3 meetings of the reclaiming ministries tea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seminar presenters:  Any of the discussion questions included i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opics A, B., C, and D are good to use in your seminar discus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a:t>
            </a:r>
            <a:r>
              <a:rPr b="1" lang="en-US" sz="1200" spc="-1" strike="noStrike">
                <a:solidFill>
                  <a:srgbClr val="000000"/>
                </a:solidFill>
                <a:latin typeface="Times New Roman"/>
              </a:rPr>
              <a:t>	</a:t>
            </a:r>
            <a:r>
              <a:rPr b="1" lang="en-US" sz="1200" spc="-1" strike="noStrike">
                <a:solidFill>
                  <a:srgbClr val="000000"/>
                </a:solidFill>
                <a:latin typeface="Times New Roman"/>
              </a:rPr>
              <a:t>Ministering to the Miss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Reasons women leave the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ing women who left the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contact with missing memb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Hebrews 12:2, 3; Philippians 4:6; Matthew 7:7, 8</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a:t>
            </a:r>
            <a:r>
              <a:rPr b="0" lang="en-US" sz="1200" spc="-1" strike="noStrike">
                <a:solidFill>
                  <a:srgbClr val="000000"/>
                </a:solidFill>
                <a:latin typeface="Times New Roman"/>
              </a:rPr>
              <a:t>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bout a time you felt like quitting church.  What happened?  How did you feel?  What helped you to resolve those feeling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ever been contacted by an organization that you visited (perhaps another church) and you didn’t want to be contacted?  How did you fee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Share an experience in which someone paid a visit to your home and you felt uncomfortable.  Was it a salesperson?  Someone from another denomination?  What did you not appreciate about their visi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575160" y="393840"/>
            <a:ext cx="2963880" cy="2222280"/>
          </a:xfrm>
          <a:prstGeom prst="rect">
            <a:avLst/>
          </a:prstGeom>
          <a:ln w="0">
            <a:noFill/>
          </a:ln>
        </p:spPr>
      </p:sp>
      <p:sp>
        <p:nvSpPr>
          <p:cNvPr id="176" name="PlaceHolder 2"/>
          <p:cNvSpPr>
            <a:spLocks noGrp="1"/>
          </p:cNvSpPr>
          <p:nvPr>
            <p:ph type="body"/>
          </p:nvPr>
        </p:nvSpPr>
        <p:spPr>
          <a:xfrm>
            <a:off x="372960" y="447480"/>
            <a:ext cx="6037200" cy="8296200"/>
          </a:xfrm>
          <a:prstGeom prst="rect">
            <a:avLst/>
          </a:prstGeom>
          <a:noFill/>
          <a:ln w="0">
            <a:noFill/>
          </a:ln>
        </p:spPr>
        <p:txBody>
          <a:bodyPr lIns="91800" rIns="91800" anchor="t">
            <a:noAutofit/>
          </a:bodyPr>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190440" indent="-190440">
              <a:lnSpc>
                <a:spcPct val="90000"/>
              </a:lnSpc>
              <a:spcBef>
                <a:spcPts val="451"/>
              </a:spcBef>
              <a:buClr>
                <a:srgbClr val="000000"/>
              </a:buClr>
              <a:buFont typeface="Time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reasons women leave the                                                                                          church.  Here is a list of common  reasons                                                                                                                                               people quit coming, based on research among                                                                       Seventh-day Adventists: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with spouse and/or a divorce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with other members of the church</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to another town with no follow-up between                                                                churche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the transition into a new stage of lif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e their connection with Go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eliness and feeling as though they don’t belong.</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f you have not already done so, make a list of the women you want to reclaim, praying carefully over each name.  You should have had input from the pastor, the church board, and the other church members.  In addition, you will want to check other sources of names, such as those already mentione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nvite the women, especially the mentors, to begin praying about those with whom they could begin to build a friendship.  </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the first contact with the missing member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One of the very best ways to make the first contact is to send each woman you hope to reclaim a one-year subscription to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magazine (available from Review &amp; Herald Publishing Association).  </a:t>
            </a:r>
            <a:r>
              <a:rPr b="0" i="1" lang="en-US" sz="1200" spc="-1" strike="noStrike">
                <a:solidFill>
                  <a:srgbClr val="000000"/>
                </a:solidFill>
                <a:latin typeface="Times New Roman"/>
              </a:rPr>
              <a:t>Women of Spirit </a:t>
            </a:r>
            <a:r>
              <a:rPr b="0" lang="en-US" sz="1200" spc="-1" strike="noStrike">
                <a:solidFill>
                  <a:srgbClr val="000000"/>
                </a:solidFill>
                <a:latin typeface="Times New Roman"/>
              </a:rPr>
              <a:t>offers a special subscription rate for the Heart Call reclaiming ministry, so be sure to mention </a:t>
            </a:r>
            <a:r>
              <a:rPr b="0" i="1" lang="en-US" sz="1200" spc="-1" strike="noStrike">
                <a:solidFill>
                  <a:srgbClr val="000000"/>
                </a:solidFill>
                <a:latin typeface="Times New Roman"/>
              </a:rPr>
              <a:t>Heart Call</a:t>
            </a:r>
            <a:r>
              <a:rPr b="0" lang="en-US" sz="1200" spc="-1" strike="noStrike">
                <a:solidFill>
                  <a:srgbClr val="000000"/>
                </a:solidFill>
                <a:latin typeface="Times New Roman"/>
              </a:rPr>
              <a:t> or tell them it is for a reclaiming ministry when you send in your subscription list.  They will send you a card to mail to each woman receiving a subscription notifying them that her church cares about her and is sending her a free subscription to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This will alert her to look for the magazin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omen on your list to be reclaimed have had time to receive their first issue of </a:t>
            </a:r>
            <a:r>
              <a:rPr b="0" i="1" lang="en-US" sz="1200" spc="-1" strike="noStrike">
                <a:solidFill>
                  <a:srgbClr val="000000"/>
                </a:solidFill>
                <a:latin typeface="Times New Roman"/>
              </a:rPr>
              <a:t>Women of Spirit</a:t>
            </a:r>
            <a:r>
              <a:rPr b="0" lang="en-US" sz="1200" spc="-1" strike="noStrike">
                <a:solidFill>
                  <a:srgbClr val="000000"/>
                </a:solidFill>
                <a:latin typeface="Times New Roman"/>
              </a:rPr>
              <a:t>, then the mentors can call them, asking if they’ve had time to read the magazine, if they liked it, etc.  This is an easy and non-threatening way to open up communication between the mentors and the missing members.</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If you live in a division where you can’t send a subscription to </a:t>
            </a:r>
            <a:r>
              <a:rPr b="0" i="1" lang="en-US" sz="1200" spc="-1" strike="noStrike">
                <a:solidFill>
                  <a:srgbClr val="000000"/>
                </a:solidFill>
                <a:latin typeface="Times New Roman"/>
              </a:rPr>
              <a:t>Women of Spirit, </a:t>
            </a:r>
            <a:r>
              <a:rPr b="0" lang="en-US" sz="1200" spc="-1" strike="noStrike">
                <a:solidFill>
                  <a:srgbClr val="000000"/>
                </a:solidFill>
                <a:latin typeface="Times New Roman"/>
              </a:rPr>
              <a:t>sending the women’s devotional book would be a good idea.  Also, contact your division office to find out about other magazines that you might send them a subscription to or other devotional material.  When you send a book, be sure to enclose a personal note with it, letting the recipient know that your church is thinking of her.  If you give her a subscription to a journal, send her a note to let her know the church is sending it to her.  In these notes, be sure to let the women know that they have been missed.  Then the mentor can follow up with a phone call in a few days, asking if the woman has had time to read it, how she liked it, etc.</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the second contact.  You may want to:</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them out to eat</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l them on the phone</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 them a greeting card with a personal note included</a:t>
            </a:r>
            <a:endParaRPr b="0" lang="en-US" sz="1200" spc="-1" strike="noStrike">
              <a:solidFill>
                <a:srgbClr val="000000"/>
              </a:solidFill>
              <a:latin typeface="Times New Roman"/>
            </a:endParaRPr>
          </a:p>
          <a:p>
            <a:pPr marL="1904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them to a social event (away from the church)</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11400" y="574560"/>
            <a:ext cx="2921040" cy="2190960"/>
          </a:xfrm>
          <a:prstGeom prst="rect">
            <a:avLst/>
          </a:prstGeom>
          <a:ln w="0">
            <a:noFill/>
          </a:ln>
        </p:spPr>
      </p:sp>
      <p:sp>
        <p:nvSpPr>
          <p:cNvPr id="178" name="PlaceHolder 2"/>
          <p:cNvSpPr>
            <a:spLocks noGrp="1"/>
          </p:cNvSpPr>
          <p:nvPr>
            <p:ph type="body"/>
          </p:nvPr>
        </p:nvSpPr>
        <p:spPr>
          <a:xfrm>
            <a:off x="685800" y="3103200"/>
            <a:ext cx="5486400" cy="53290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emotions the mentors might encounter from the missing members when making contact with them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stance—Do they really care that I come bac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spicion—Am I part of some church proje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er—I don’t want to talk to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prise—You’re the first person who has contacted me since I left many years ag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itation—What do you want?  Mone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missing member feels that someone at church wronged her or offended her, don’t make excuses.  This will invalidate her feelings, and she won’t want to be your friend.  Instead of making excuses, say something like, “I’m so sorry that happened.  Please come back and give us another chanc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947960" y="650880"/>
            <a:ext cx="3022560" cy="2266920"/>
          </a:xfrm>
          <a:prstGeom prst="rect">
            <a:avLst/>
          </a:prstGeom>
          <a:ln w="0">
            <a:noFill/>
          </a:ln>
        </p:spPr>
      </p:sp>
      <p:sp>
        <p:nvSpPr>
          <p:cNvPr id="180" name="PlaceHolder 2"/>
          <p:cNvSpPr>
            <a:spLocks noGrp="1"/>
          </p:cNvSpPr>
          <p:nvPr>
            <p:ph type="body"/>
          </p:nvPr>
        </p:nvSpPr>
        <p:spPr>
          <a:xfrm>
            <a:off x="685800" y="3255840"/>
            <a:ext cx="5486400" cy="517680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t>
            </a:r>
            <a:r>
              <a:rPr b="0" lang="en-US" sz="1200" spc="-1" strike="noStrike">
                <a:solidFill>
                  <a:srgbClr val="000000"/>
                </a:solidFill>
                <a:latin typeface="Times New Roman"/>
              </a:rPr>
              <a:t>	</a:t>
            </a:r>
            <a:r>
              <a:rPr b="1" lang="en-US" sz="1200" spc="-1" strike="noStrike">
                <a:solidFill>
                  <a:srgbClr val="000000"/>
                </a:solidFill>
                <a:latin typeface="Times New Roman"/>
              </a:rPr>
              <a:t>The Healing Proces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Learning to be a more effective lis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show you care for the women who have stopped attending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inister to the needs of women who no long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James 1:19; Galatians 6:2; Romans 12:9-1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a:t>
            </a:r>
            <a:r>
              <a:rPr b="0" lang="en-US" sz="1200" spc="-1" strike="noStrike">
                <a:solidFill>
                  <a:srgbClr val="000000"/>
                </a:solidFill>
                <a:latin typeface="Times New Roman"/>
              </a:rPr>
              <a:t> 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experience in which you really felt the need to be </a:t>
            </a:r>
            <a:r>
              <a:rPr b="0" i="1" lang="en-US" sz="1200" spc="-1" strike="noStrike">
                <a:solidFill>
                  <a:srgbClr val="000000"/>
                </a:solidFill>
                <a:latin typeface="Times New Roman"/>
              </a:rPr>
              <a:t>listened to</a:t>
            </a:r>
            <a:r>
              <a:rPr b="0" lang="en-US" sz="1200" spc="-1" strike="noStrike">
                <a:solidFill>
                  <a:srgbClr val="000000"/>
                </a:solidFill>
                <a:latin typeface="Times New Roman"/>
              </a:rPr>
              <a:t>, but the other person cut you off and kept on talking.  How did you feel?  What are some of the qualities of a good lis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n experience from your past in which you were hurt deeply over some difficult situation and wished someone would show care and concern.  What would have been most meaningful to you at that ti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If you had a serious problem, where would you turn?  If your world fell apart, where could you find someone who cared enough to hel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971720" y="650880"/>
            <a:ext cx="3124080" cy="2343240"/>
          </a:xfrm>
          <a:prstGeom prst="rect">
            <a:avLst/>
          </a:prstGeom>
          <a:ln w="0">
            <a:noFill/>
          </a:ln>
        </p:spPr>
      </p:sp>
      <p:sp>
        <p:nvSpPr>
          <p:cNvPr id="182"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make friends with the women you are mentoring: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e genuinely interested in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ile often.  Express your sense of humor when appropr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names of people in whom she is intere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her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sure she understands how important she is to you; you must sincerely be her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 good listener; encourage her to talk about herself.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151000" y="650880"/>
            <a:ext cx="2614680" cy="1960560"/>
          </a:xfrm>
          <a:prstGeom prst="rect">
            <a:avLst/>
          </a:prstGeom>
          <a:ln w="0">
            <a:noFill/>
          </a:ln>
        </p:spPr>
      </p:sp>
      <p:sp>
        <p:nvSpPr>
          <p:cNvPr id="184" name="PlaceHolder 2"/>
          <p:cNvSpPr>
            <a:spLocks noGrp="1"/>
          </p:cNvSpPr>
          <p:nvPr>
            <p:ph type="body"/>
          </p:nvPr>
        </p:nvSpPr>
        <p:spPr>
          <a:xfrm>
            <a:off x="685800" y="2871360"/>
            <a:ext cx="5486400" cy="5560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confidences as a sacred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you are not there to talk, scold, beg, or pl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be defensive.  If she is angry, allow her to vent her a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empathy.  If she has been deeply hurt, allow her to express her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honest, accepting attitudes will help her heal far better than making excuses or defending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things slowly.  Be tactful and genuine when you express your own feelings in ministering to her nee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6120" y="650880"/>
            <a:ext cx="2716200" cy="2036880"/>
          </a:xfrm>
          <a:prstGeom prst="rect">
            <a:avLst/>
          </a:prstGeom>
          <a:ln w="0">
            <a:noFill/>
          </a:ln>
        </p:spPr>
      </p:sp>
      <p:sp>
        <p:nvSpPr>
          <p:cNvPr id="152" name="PlaceHolder 2"/>
          <p:cNvSpPr>
            <a:spLocks noGrp="1"/>
          </p:cNvSpPr>
          <p:nvPr>
            <p:ph type="body"/>
          </p:nvPr>
        </p:nvSpPr>
        <p:spPr>
          <a:xfrm>
            <a:off x="685800" y="3103200"/>
            <a:ext cx="5486400" cy="532908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able of the lost sheep is found in Luke 15:4-6</a:t>
            </a:r>
            <a:r>
              <a:rPr b="1" lang="en-US" sz="1200" spc="-1" strike="noStrike">
                <a:solidFill>
                  <a:srgbClr val="000000"/>
                </a:solidFill>
                <a:latin typeface="Times New Roman"/>
              </a:rPr>
              <a:t> </a:t>
            </a:r>
            <a:r>
              <a:rPr b="0" lang="en-US" sz="1200" spc="-1" strike="noStrike">
                <a:solidFill>
                  <a:srgbClr val="000000"/>
                </a:solidFill>
                <a:latin typeface="Times New Roman"/>
              </a:rPr>
              <a:t>“Suppose one of you has a hundred sheep and loses one of them. Does he not leave the ninety-nine in the open country and go after the lost sheep until he finds it?  And when he finds it, he joyfully puts it on his shoulders and goes home.  Then he calls his friends and neighbors together and says, ‘Rejoice with me; I have found my lost sheep.’”  The Shepherd wasn’t satisfied with 99% of his sheep being safe—he wanted 100%.  And he didn’t stop to rest until he found that one lost sheep.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the sheep didn’t know that it was in danger—but the shepherd did.  The shepherd knew that there were mountain lions and other wild animals seeking to devour the sheep.  He knew the sheep could wander over the edge of a cliff or drown in a stream.  The sheep probably hadn’t even wandered away intentionally.  It might have been paying more attention to the grass immediately in front of it than to the rest of the herd and simply eaten its way in the opposite direction of the other sheep.  How it happened was not important.  What was important was that the sheep was lost and its life was in dang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what the shepherd did when he found his sheep.  He “joyfully put it on his shoulders . . . and calls his friends and neighbors together and says, ‘Rejoice with me; I have found my lost sheep’” (verse 6).</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rable tells us that lost people matter to God—and they should matter to us.  It doesn’t matter whether a person leaves the church intentionally, became overwhelmed with personal problems, or simply got out of the habit of attending church.  What is important to God—and should be important to us—is that they are no longer attending church.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ngregations would probably be satisfied with 99% of the members attending church services regularly.  However, most churches have far less than 99% attending.  Should we be satisfied with seeing only a fraction of our members in church regularly?  If we believe the parable of the lost sheep, our aim should be 100% attending.</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770120" y="650880"/>
            <a:ext cx="2921040" cy="2190600"/>
          </a:xfrm>
          <a:prstGeom prst="rect">
            <a:avLst/>
          </a:prstGeom>
          <a:ln w="0">
            <a:noFill/>
          </a:ln>
        </p:spPr>
      </p:sp>
      <p:sp>
        <p:nvSpPr>
          <p:cNvPr id="186" name="PlaceHolder 2"/>
          <p:cNvSpPr>
            <a:spLocks noGrp="1"/>
          </p:cNvSpPr>
          <p:nvPr>
            <p:ph type="body"/>
          </p:nvPr>
        </p:nvSpPr>
        <p:spPr>
          <a:xfrm>
            <a:off x="685800" y="3179520"/>
            <a:ext cx="5486400" cy="52527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show you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rop in” uninvited.  Always call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make an appointment to meet her for lunch as your t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 positive, supporting at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 her personal space and offer to meet in a neutral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out if there is anything you can do for her personally, such as child care, support group, or material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o spend much time </a:t>
            </a:r>
            <a:r>
              <a:rPr b="0" i="1" lang="en-US" sz="1200" spc="-1" strike="noStrike">
                <a:solidFill>
                  <a:srgbClr val="000000"/>
                </a:solidFill>
                <a:latin typeface="Times New Roman"/>
              </a:rPr>
              <a:t>listening</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lan a women’s ministries tea or other social event at a location away from the church to invite the missing members to.  The mentor should plan to pick up her friend and take her to this event if at all possible.  The missing member may have fears about attending a church-sponsored event, and this will make it easier for he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616040" y="650880"/>
            <a:ext cx="3473640" cy="2604960"/>
          </a:xfrm>
          <a:prstGeom prst="rect">
            <a:avLst/>
          </a:prstGeom>
          <a:ln w="0">
            <a:noFill/>
          </a:ln>
        </p:spPr>
      </p:sp>
      <p:sp>
        <p:nvSpPr>
          <p:cNvPr id="188" name="PlaceHolder 2"/>
          <p:cNvSpPr>
            <a:spLocks noGrp="1"/>
          </p:cNvSpPr>
          <p:nvPr>
            <p:ph type="body"/>
          </p:nvPr>
        </p:nvSpPr>
        <p:spPr>
          <a:xfrm>
            <a:off x="685800" y="3486240"/>
            <a:ext cx="5486400" cy="49464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uilding Trust and Fa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eas of focus: </a:t>
            </a:r>
            <a:r>
              <a:rPr b="0" lang="en-US" sz="1200" spc="-1" strike="noStrike">
                <a:solidFill>
                  <a:srgbClr val="000000"/>
                </a:solidFill>
                <a:latin typeface="Times New Roman"/>
              </a:rPr>
              <a:t>Building trust in your relationships with women who no longer attend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when and how to share your faith with women who are not attending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ing women you are mentoring to join a Bible study or small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ayer time scriptures: </a:t>
            </a:r>
            <a:r>
              <a:rPr b="0" lang="en-US" sz="1200" spc="-1" strike="noStrike">
                <a:solidFill>
                  <a:srgbClr val="000000"/>
                </a:solidFill>
                <a:latin typeface="Times New Roman"/>
              </a:rPr>
              <a:t>1 John 3:18; 1 Peter 3:15; Mark 1: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a:t>
            </a:r>
            <a:r>
              <a:rPr b="0" lang="en-US" sz="1200" spc="-1" strike="noStrike">
                <a:solidFill>
                  <a:srgbClr val="000000"/>
                </a:solidFill>
                <a:latin typeface="Times New Roman"/>
              </a:rPr>
              <a:t>Ask team members to discuss these questions and apply the lessons they’ve learned from their own experiences to the missing women they hope to reclai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hare about a time when someone let you down so badly that you   felt you could no longer trust them.  What helps you really trust a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ave you ever been uncomfortable when someone tried to share their faith with you?  What happened?  What would you have prefer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spiritual discipline (prayer, Bible study, meditation, fasting, journaling, etc.) helps you the most in your walk with Go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913040" y="650880"/>
            <a:ext cx="3166920" cy="2374920"/>
          </a:xfrm>
          <a:prstGeom prst="rect">
            <a:avLst/>
          </a:prstGeom>
          <a:ln w="0">
            <a:noFill/>
          </a:ln>
        </p:spPr>
      </p:sp>
      <p:sp>
        <p:nvSpPr>
          <p:cNvPr id="190"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nd time discussing the qualities of a trustworthy frien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lie to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s your boundar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ects our decis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holds your dignity and wor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s the best for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ors your confidences </a:t>
            </a:r>
            <a:r>
              <a:rPr b="0" lang="en-US" sz="1200" spc="-1" strike="noStrike">
                <a:solidFill>
                  <a:srgbClr val="000000"/>
                </a:solidFill>
                <a:latin typeface="Times New Roman"/>
              </a:rPr>
              <a:t>Allow time for the mentors to reflect on whether the women they are mentoring are developing trust in them.  Are they sharing deep inner needs with the mentor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947960" y="727200"/>
            <a:ext cx="3022560" cy="2266920"/>
          </a:xfrm>
          <a:prstGeom prst="rect">
            <a:avLst/>
          </a:prstGeom>
          <a:ln w="0">
            <a:noFill/>
          </a:ln>
        </p:spPr>
      </p:sp>
      <p:sp>
        <p:nvSpPr>
          <p:cNvPr id="192" name="PlaceHolder 2"/>
          <p:cNvSpPr>
            <a:spLocks noGrp="1"/>
          </p:cNvSpPr>
          <p:nvPr>
            <p:ph type="body"/>
          </p:nvPr>
        </p:nvSpPr>
        <p:spPr>
          <a:xfrm>
            <a:off x="685800" y="3333600"/>
            <a:ext cx="5486400" cy="50990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iscussing ways to share your faith with your friend, consider the following: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man you are mentoring most likely still believes Adventist teachings, although she may have forgotten som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does not need lectures about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may have been hurt by the church or by another Advent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may have done something that she feels God cannot forgive her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ill not share her true feelings until she trusts yo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460680" y="192240"/>
            <a:ext cx="2757600" cy="2068200"/>
          </a:xfrm>
          <a:prstGeom prst="rect">
            <a:avLst/>
          </a:prstGeom>
          <a:ln w="0">
            <a:noFill/>
          </a:ln>
        </p:spPr>
      </p:sp>
      <p:sp>
        <p:nvSpPr>
          <p:cNvPr id="194" name="PlaceHolder 2"/>
          <p:cNvSpPr>
            <a:spLocks noGrp="1"/>
          </p:cNvSpPr>
          <p:nvPr>
            <p:ph type="body"/>
          </p:nvPr>
        </p:nvSpPr>
        <p:spPr>
          <a:xfrm>
            <a:off x="685800" y="1800360"/>
            <a:ext cx="5486400" cy="655632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practical ways to share your faith.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arguing.</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careful not to get sidetracked by doctrinal issues if her relationship with the Lord is shaky.</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in terms of her “nee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your own story of conversion/falling in love with the Lord and how important He is in your life now.</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t>
            </a:r>
            <a:r>
              <a:rPr b="0" i="1" lang="en-US" sz="1200" spc="-1" strike="noStrike">
                <a:solidFill>
                  <a:srgbClr val="000000"/>
                </a:solidFill>
                <a:latin typeface="Times New Roman"/>
              </a:rPr>
              <a:t>not</a:t>
            </a:r>
            <a:r>
              <a:rPr b="0" lang="en-US" sz="1200" spc="-1" strike="noStrike">
                <a:solidFill>
                  <a:srgbClr val="000000"/>
                </a:solidFill>
                <a:latin typeface="Times New Roman"/>
              </a:rPr>
              <a:t> push 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kind and compassionat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 the issue if she doesn’t want to discuss i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ore the reality that in the course of their growing friendship the mentor may have an opportunity to invite her friend to accept Jesus by praying with her and then inviting her to do something to help her keep growing in faith.  Here are some points to consider: </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may not be time to invite her back to church.  She may feel that it is not a safe place but would be willing to meet in someone’s home for a Bible study group.</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some of your devotional practices with 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open about your own need of other Christian friends to encourage you and hold you accountabl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to attend a small study or prayer group, or for just the two of you to study together.</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nd the friendship if she is not ready to join a study group.  Be patien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The Bible study leader should lead out in making plans for a small group(s) and/or Bible studies in members’ homes.  The number of groups will depend on the number of missing members who are ready to join such a group.  It will likely be easier for missing members to go to a person’s home rather than to take studies at church, especially if the woman has not attended church in a long tim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ilities for group study ar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ome Alive With Jesus </a:t>
            </a:r>
            <a:r>
              <a:rPr b="0" lang="en-US" sz="1200" spc="-1" strike="noStrike">
                <a:solidFill>
                  <a:srgbClr val="000000"/>
                </a:solidFill>
                <a:latin typeface="Times New Roman"/>
              </a:rPr>
              <a:t>Bible study guides, which focus on building a relationship with Jesu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ible Studies for Busy Women</a:t>
            </a:r>
            <a:r>
              <a:rPr b="0" lang="en-US" sz="1200" spc="-1" strike="noStrike">
                <a:solidFill>
                  <a:srgbClr val="000000"/>
                </a:solidFill>
                <a:latin typeface="Times New Roman"/>
              </a:rPr>
              <a:t>, which are relational studies geared especially for women’ needs</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books or lessons of interest to women:  </a:t>
            </a:r>
            <a:r>
              <a:rPr b="0" i="1" lang="en-US" sz="1200" spc="-1" strike="noStrike">
                <a:solidFill>
                  <a:srgbClr val="000000"/>
                </a:solidFill>
                <a:latin typeface="Times New Roman"/>
              </a:rPr>
              <a:t>Steps to Christ</a:t>
            </a:r>
            <a:r>
              <a:rPr b="0" lang="en-US" sz="1200" spc="-1" strike="noStrike">
                <a:solidFill>
                  <a:srgbClr val="000000"/>
                </a:solidFill>
                <a:latin typeface="Times New Roman"/>
              </a:rPr>
              <a:t> also has study guid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022480" y="650880"/>
            <a:ext cx="3022560" cy="2266920"/>
          </a:xfrm>
          <a:prstGeom prst="rect">
            <a:avLst/>
          </a:prstGeom>
          <a:ln w="0">
            <a:noFill/>
          </a:ln>
        </p:spPr>
      </p:sp>
      <p:sp>
        <p:nvSpPr>
          <p:cNvPr id="196" name="PlaceHolder 2"/>
          <p:cNvSpPr>
            <a:spLocks noGrp="1"/>
          </p:cNvSpPr>
          <p:nvPr>
            <p:ph type="body"/>
          </p:nvPr>
        </p:nvSpPr>
        <p:spPr>
          <a:xfrm>
            <a:off x="685800" y="3179520"/>
            <a:ext cx="5486400" cy="5252760"/>
          </a:xfrm>
          <a:prstGeom prst="rect">
            <a:avLst/>
          </a:prstGeom>
          <a:noFill/>
          <a:ln w="0">
            <a:noFill/>
          </a:ln>
        </p:spPr>
        <p:txBody>
          <a:bodyPr lIns="91800" rIns="91800" anchor="t">
            <a:noAutofit/>
          </a:bodyPr>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newing a Commitment to Christ </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Areas of focus: </a:t>
            </a:r>
            <a:r>
              <a:rPr b="0" lang="en-US" sz="1200" spc="-1" strike="noStrike">
                <a:solidFill>
                  <a:srgbClr val="000000"/>
                </a:solidFill>
                <a:latin typeface="Times New Roman"/>
              </a:rPr>
              <a:t>Inviting your friend to attend church on Sabbath</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viting your friend to an evangelistic meeting</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lanning events to welcome former members back to church</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rayer time scriptures:</a:t>
            </a:r>
            <a:r>
              <a:rPr b="1" lang="en-US" sz="1200" spc="-1" strike="noStrike">
                <a:solidFill>
                  <a:srgbClr val="000000"/>
                </a:solidFill>
                <a:latin typeface="Times New Roman"/>
              </a:rPr>
              <a:t>	</a:t>
            </a:r>
            <a:r>
              <a:rPr b="0" lang="en-US" sz="1200" spc="-1" strike="noStrike">
                <a:solidFill>
                  <a:srgbClr val="000000"/>
                </a:solidFill>
                <a:latin typeface="Times New Roman"/>
              </a:rPr>
              <a:t>Hebrews 10:25; Romans 10:17; Luke 15:8-10</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a:t>
            </a:r>
            <a:r>
              <a:rPr b="1" lang="en-US" sz="1200" spc="-1" strike="noStrike">
                <a:solidFill>
                  <a:srgbClr val="000000"/>
                </a:solidFill>
                <a:latin typeface="Times New Roman"/>
              </a:rPr>
              <a:t>	</a:t>
            </a:r>
            <a:r>
              <a:rPr b="0" lang="en-US" sz="1200" spc="-1" strike="noStrike">
                <a:solidFill>
                  <a:srgbClr val="000000"/>
                </a:solidFill>
                <a:latin typeface="Times New Roman"/>
              </a:rPr>
              <a:t>Ask the women to discuss these questions and apply the lessons they’ve learned from their own experiences to the missing women they hope to reclaim.</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Have you ever been nervous about attending church?  Perhaps you had quit attending and then came back.  Or perhaps you were a visitor at another church.  Tell about your experience.</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What do you like most about evangelistic meetings held at your church?  What do you like least?</a:t>
            </a:r>
            <a:endParaRPr b="0" lang="en-US" sz="1200" spc="-1" strike="noStrike">
              <a:solidFill>
                <a:srgbClr val="000000"/>
              </a:solidFill>
              <a:latin typeface="Times New Roman"/>
            </a:endParaRPr>
          </a:p>
          <a:p>
            <a:pPr marL="228600" indent="0">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enjoy celebrations?  Share about a party or celebration you attended that you enjoyed.</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089080" y="268200"/>
            <a:ext cx="2757600" cy="2068560"/>
          </a:xfrm>
          <a:prstGeom prst="rect">
            <a:avLst/>
          </a:prstGeom>
          <a:ln w="0">
            <a:noFill/>
          </a:ln>
        </p:spPr>
      </p:sp>
      <p:sp>
        <p:nvSpPr>
          <p:cNvPr id="198" name="PlaceHolder 2"/>
          <p:cNvSpPr>
            <a:spLocks noGrp="1"/>
          </p:cNvSpPr>
          <p:nvPr>
            <p:ph type="body"/>
          </p:nvPr>
        </p:nvSpPr>
        <p:spPr>
          <a:xfrm>
            <a:off x="533520" y="2106720"/>
            <a:ext cx="5486400" cy="5867280"/>
          </a:xfrm>
          <a:prstGeom prst="rect">
            <a:avLst/>
          </a:prstGeom>
          <a:noFill/>
          <a:ln w="0">
            <a:noFill/>
          </a:ln>
        </p:spPr>
        <p:txBody>
          <a:bodyPr lIns="91800" rIns="91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fact that coming back to church after an extended absence can be difficult for a person.  How can you make it a more positive experienc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to pick her up and take her to church.</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 your greeters to warmly welcome former members without questioning them about why they’ve been absent so long.</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to join your Sabbath School clas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ubject her to standing and introducing herself or wearing a “visitor” sticker.</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ite her and her family home for Sabbath din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a former member may mention in church or in a Sabbath School class some of her bitterness or frustration with the church.  It is important that you not react to such statements.  Here are ways to help:</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tient and list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knowledge that the church is not perfect and that most people have some kind of frustration with something or some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try to correct what she says.  Just listen, keeping in mind that listening does not necessarily mean that you agre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ways to invite former members to an evangelistic meeting.  It might be best to put the invitation in terms of how such a meeting is a valuable way to strengthen one’s faith, or a way to review it.  Here again, it is important for the mentor to offer to attend the series with her frien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the parable of the lost coin.  In this parable, when the woman found her coin she rejoiced with her friends.  Discuss ways your reclaiming ministries team or your church can rejoice in welcoming back the women who are returning to chur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want to give each one a gift to show your joy, perhaps flowers, a gift certificate, a book, or you might consider taking them out to a special meal or holding a tea or luncheon in her/their hono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 the meeting by inviting the team members to share a blessing, an answer to prayer, or other joy related to the reclaiming minist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98720" y="727200"/>
            <a:ext cx="2921040" cy="2190600"/>
          </a:xfrm>
          <a:prstGeom prst="rect">
            <a:avLst/>
          </a:prstGeom>
          <a:ln w="0">
            <a:noFill/>
          </a:ln>
        </p:spPr>
      </p:sp>
      <p:sp>
        <p:nvSpPr>
          <p:cNvPr id="200" name="PlaceHolder 2"/>
          <p:cNvSpPr>
            <a:spLocks noGrp="1"/>
          </p:cNvSpPr>
          <p:nvPr>
            <p:ph type="body"/>
          </p:nvPr>
        </p:nvSpPr>
        <p:spPr>
          <a:xfrm>
            <a:off x="609480" y="3179880"/>
            <a:ext cx="5486400" cy="5176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LLOW-UP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reclaiming ministry is experiencing success and seeing missing members return to church, there is need for other, infrequent team meetings to formulate plan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rturing and discipling the women who have returned to church to prevent them from leaving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ing these newly-returned women in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ising God for His blessings in your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947960" y="727200"/>
            <a:ext cx="2717640" cy="2038320"/>
          </a:xfrm>
          <a:prstGeom prst="rect">
            <a:avLst/>
          </a:prstGeom>
          <a:ln w="0">
            <a:noFill/>
          </a:ln>
        </p:spPr>
      </p:sp>
      <p:sp>
        <p:nvSpPr>
          <p:cNvPr id="154" name="PlaceHolder 2"/>
          <p:cNvSpPr>
            <a:spLocks noGrp="1"/>
          </p:cNvSpPr>
          <p:nvPr>
            <p:ph type="body"/>
          </p:nvPr>
        </p:nvSpPr>
        <p:spPr>
          <a:xfrm>
            <a:off x="685800" y="3025440"/>
            <a:ext cx="5486400" cy="54068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at same chapter of Luke, verses 8-9, we find another parable that illustrates God’s concern for the lost.</a:t>
            </a:r>
            <a:r>
              <a:rPr b="1" lang="en-US" sz="1200" spc="-1" strike="noStrike">
                <a:solidFill>
                  <a:srgbClr val="000000"/>
                </a:solidFill>
                <a:latin typeface="Times New Roman"/>
              </a:rPr>
              <a:t> </a:t>
            </a:r>
            <a:r>
              <a:rPr b="0" lang="en-US" sz="1200" spc="-1" strike="noStrike">
                <a:solidFill>
                  <a:srgbClr val="000000"/>
                </a:solidFill>
                <a:latin typeface="Times New Roman"/>
              </a:rPr>
              <a:t>“Or suppose a woman has ten silver coins and loses one. Does she not light a lamp, sweep the house and search carefully until she finds it? And when she finds it, she calls her friends and neighbors together and says, ‘Rejoice with me; I have found my lost coi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692360" y="727200"/>
            <a:ext cx="3531960" cy="2649240"/>
          </a:xfrm>
          <a:prstGeom prst="rect">
            <a:avLst/>
          </a:prstGeom>
          <a:ln w="0">
            <a:noFill/>
          </a:ln>
        </p:spPr>
      </p:sp>
      <p:sp>
        <p:nvSpPr>
          <p:cNvPr id="156" name="PlaceHolder 2"/>
          <p:cNvSpPr>
            <a:spLocks noGrp="1"/>
          </p:cNvSpPr>
          <p:nvPr>
            <p:ph type="body"/>
          </p:nvPr>
        </p:nvSpPr>
        <p:spPr>
          <a:xfrm>
            <a:off x="685800" y="3561840"/>
            <a:ext cx="5486400" cy="4870440"/>
          </a:xfrm>
          <a:prstGeom prst="rect">
            <a:avLst/>
          </a:prstGeom>
          <a:noFill/>
          <a:ln w="0">
            <a:noFill/>
          </a:ln>
        </p:spPr>
        <p:txBody>
          <a:bodyPr lIns="91800" rIns="91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se 10 tells us, “In the same way, I tell you, there is rejoicing in the presence of the angels of God over one sinner who repents.’”  As women, most of us can identify with the urgency of finding something important that was lost—your purse, your keys, maybe even a friendship.  Perhaps God is impressing you now with the importance of reclaiming women who are missing from the church—those who are no longer attending, no matter what the reas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NEED FOR RECLAIMING</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begin a reclaiming ministry, there must be a recognizable need in your church as well as a strong desire to win back the women who are no longer attending.  As God impresses the hearts of the Women’s Ministries team, they should begin praying</a:t>
            </a:r>
            <a:r>
              <a:rPr b="1" lang="en-US" sz="1200" spc="-1" strike="noStrike">
                <a:solidFill>
                  <a:srgbClr val="000000"/>
                </a:solidFill>
                <a:latin typeface="Times New Roman"/>
              </a:rPr>
              <a:t> </a:t>
            </a:r>
            <a:r>
              <a:rPr b="0" lang="en-US" sz="1200" spc="-1" strike="noStrike">
                <a:solidFill>
                  <a:srgbClr val="000000"/>
                </a:solidFill>
                <a:latin typeface="Times New Roman"/>
              </a:rPr>
              <a:t>about it.  Who is missing from church?  Ask God to direct you to the women He wants you to reach out to.  Remember, prayer is the key to success in this endeavo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piration, read the parables about “lost things” in Luke 15 and other books about missing members.  The </a:t>
            </a:r>
            <a:r>
              <a:rPr b="0" i="1" lang="en-US" sz="1200" spc="-1" strike="noStrike">
                <a:solidFill>
                  <a:srgbClr val="000000"/>
                </a:solidFill>
                <a:latin typeface="Times New Roman"/>
              </a:rPr>
              <a:t>Heart Call </a:t>
            </a:r>
            <a:r>
              <a:rPr b="0" lang="en-US" sz="1200" spc="-1" strike="noStrike">
                <a:solidFill>
                  <a:srgbClr val="000000"/>
                </a:solidFill>
                <a:latin typeface="Times New Roman"/>
              </a:rPr>
              <a:t>kit, available from Advent</a:t>
            </a:r>
            <a:r>
              <a:rPr b="0" i="1" lang="en-US" sz="1200" spc="-1" strike="noStrike">
                <a:solidFill>
                  <a:srgbClr val="000000"/>
                </a:solidFill>
                <a:latin typeface="Times New Roman"/>
              </a:rPr>
              <a:t>Source</a:t>
            </a:r>
            <a:r>
              <a:rPr b="0" lang="en-US" sz="1200" spc="-1" strike="noStrike">
                <a:solidFill>
                  <a:srgbClr val="000000"/>
                </a:solidFill>
                <a:latin typeface="Times New Roman"/>
              </a:rPr>
              <a:t> is an excellent resour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women dear to you who no longer attend church.  Don’t you wish they would come back?  Wouldn’t you love to have that missing sister, daughter, or friend sitting in church with you again?  Jesus wants that even more than you do, and He will guide you as you reach out to them in love and friendshi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onsider becoming involved in a reclaiming ministry, try to evaluate your motivation.  Can you offer genuine friendship to missing members?  Former and inactive members can tell right away if you truly care about them.  You must be willing to invest your time, effort, and </a:t>
            </a:r>
            <a:r>
              <a:rPr b="0" i="1" lang="en-US" sz="1200" spc="-1" strike="noStrike">
                <a:solidFill>
                  <a:srgbClr val="000000"/>
                </a:solidFill>
                <a:latin typeface="Times New Roman"/>
              </a:rPr>
              <a:t>self</a:t>
            </a:r>
            <a:r>
              <a:rPr b="0" lang="en-US" sz="1200" spc="-1" strike="noStrike">
                <a:solidFill>
                  <a:srgbClr val="000000"/>
                </a:solidFill>
                <a:latin typeface="Times New Roman"/>
              </a:rPr>
              <a:t> in a friendship, even if they never come bac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52680" y="727200"/>
            <a:ext cx="3430440" cy="2573280"/>
          </a:xfrm>
          <a:prstGeom prst="rect">
            <a:avLst/>
          </a:prstGeom>
          <a:ln w="0">
            <a:noFill/>
          </a:ln>
        </p:spPr>
      </p:sp>
      <p:sp>
        <p:nvSpPr>
          <p:cNvPr id="158" name="PlaceHolder 2"/>
          <p:cNvSpPr>
            <a:spLocks noGrp="1"/>
          </p:cNvSpPr>
          <p:nvPr>
            <p:ph type="body"/>
          </p:nvPr>
        </p:nvSpPr>
        <p:spPr>
          <a:xfrm>
            <a:off x="685800" y="3638160"/>
            <a:ext cx="5486400" cy="47941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hings to consider when beginning a Reclaiming Min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it only takes one contact to let a missing member know that they are missed, and the person will come back to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missing members, however, need time to heal, time to know the church cares, and time to grow in their relationship with God and other me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the longer a person has been away from church, the longer it will take to win them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former members do not feel that they have left God; they feel they’ve only left the church.</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717560" y="498600"/>
            <a:ext cx="3327480" cy="2495520"/>
          </a:xfrm>
          <a:prstGeom prst="rect">
            <a:avLst/>
          </a:prstGeom>
          <a:ln w="0">
            <a:noFill/>
          </a:ln>
        </p:spPr>
      </p:sp>
      <p:sp>
        <p:nvSpPr>
          <p:cNvPr id="160" name="PlaceHolder 2"/>
          <p:cNvSpPr>
            <a:spLocks noGrp="1"/>
          </p:cNvSpPr>
          <p:nvPr>
            <p:ph type="body"/>
          </p:nvPr>
        </p:nvSpPr>
        <p:spPr>
          <a:xfrm>
            <a:off x="685800" y="3409920"/>
            <a:ext cx="5486400" cy="5022720"/>
          </a:xfrm>
          <a:prstGeom prst="rect">
            <a:avLst/>
          </a:prstGeom>
          <a:noFill/>
          <a:ln w="0">
            <a:noFill/>
          </a:ln>
        </p:spPr>
        <p:txBody>
          <a:bodyPr lIns="91800" rIns="91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TING STARTED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 Talk with the pastor</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 Women’s Ministries group has a strong commitment to reclaiming, speak with your pastor about beginning a reclaiming ministry for women who have stopped attending church.  Pastors are nearly always supportive of such a ministry because they rarely have the time to visit such individuals, and they often are not welcome in the homes of those who have left the church, especially if they are women home alon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 Gather dat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want to talk with the church clerk to find the names of non-attending members who still live close enough to the church to attend.  (This program is not designed for members who have moved awa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laces to find Adventists no longer attending church who live in your area includ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membership directory</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hurch membe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ntist relativ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ble schools of evangelistic ministries such as Voice of Prophecy, Faith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oday, It Is Written, Breath of Life, La Voz de la Esperanz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entist educational institution records and alumni lis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cation Bible School reco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bbath School reco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greeters/registration c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mp meeting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urch reun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685800" y="804960"/>
            <a:ext cx="5486400" cy="76276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 Talk to the church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have enlisted your pastor’s support, then present the plan to the church board for approval and ask board members for names of women who should go on the list to be reclai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 Present the plan to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is to present the plan to the entire church.  This can be done by the Women’s Ministries leader, the reclaiming ministry leader, or the pastor.  The important thing is to give church members an opportunity to add names to the list and to “buy in” to the program.  They need to know that they will soon start seeing old familiar faces in church again and that they should be friendly and welcoming to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 Form a Reclaiming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concern for reclaiming women grows, it will be time to gather a group of women who will become a part of the reclaiming ministry team.  You will want to meet with them and begin formulating plans for the ministry.  You should pray specifically about a clear vision of the ministry, the individuals to be reclaimed, and how God wants to use each woman on the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336680" y="574560"/>
            <a:ext cx="3575160" cy="2681280"/>
          </a:xfrm>
          <a:prstGeom prst="rect">
            <a:avLst/>
          </a:prstGeom>
          <a:ln w="0">
            <a:noFill/>
          </a:ln>
        </p:spPr>
      </p:sp>
      <p:sp>
        <p:nvSpPr>
          <p:cNvPr id="163" name="PlaceHolder 2"/>
          <p:cNvSpPr>
            <a:spLocks noGrp="1"/>
          </p:cNvSpPr>
          <p:nvPr>
            <p:ph type="body"/>
          </p:nvPr>
        </p:nvSpPr>
        <p:spPr>
          <a:xfrm>
            <a:off x="685800" y="3561840"/>
            <a:ext cx="5486400" cy="48704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RGANIZING THE RECLAIMING MINISTRY TE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women needed on the team depends on the size of your church and the number of women to be reclai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need leaders of the team to coordinate the ministry. At the very least, you will need a reclaiming ministry leader and a Bible study lea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stry leader should be a woman who has a vision for reclaiming and possesses the spiritual gift of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ble study leader should have the gift of teaching and be able to lead a small group through Bible stu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935000" y="650880"/>
            <a:ext cx="3124440" cy="2343240"/>
          </a:xfrm>
          <a:prstGeom prst="rect">
            <a:avLst/>
          </a:prstGeom>
          <a:ln w="0">
            <a:noFill/>
          </a:ln>
        </p:spPr>
      </p:sp>
      <p:sp>
        <p:nvSpPr>
          <p:cNvPr id="165" name="PlaceHolder 2"/>
          <p:cNvSpPr>
            <a:spLocks noGrp="1"/>
          </p:cNvSpPr>
          <p:nvPr>
            <p:ph type="body"/>
          </p:nvPr>
        </p:nvSpPr>
        <p:spPr>
          <a:xfrm>
            <a:off x="685800" y="3255840"/>
            <a:ext cx="5486400" cy="51768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rger churches you will also need an assistant reclaiming ministry leader, an event coordinator, and a data coordinator (or record kee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sistant ministry leader should have administrative gifts and assist the leader, covering meetings in her absence, and generally helping to manage the details of the reclaiming min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coordinator (record keeper) should be a person gifted in details who will enter names into a database (on computer or card file) and keep track of the progress of each missing member who is being men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F6DBF-DC4D-4F43-AD86-D80896ED8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4EACC-ABB0-44DB-BFF4-61E2FC4AB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41FFE-3539-4500-8E6E-35F192F85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D8471-E5F7-4E3C-8F42-8500E1C43C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E90C2-58C8-425A-8CB6-C269376E2B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3C40C4-68A3-4478-A932-31CC32601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6CABB7-E6A2-425D-AE36-20066225C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34D2C-3938-45A8-8E94-C8B51F4A99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46E9F-2ADE-4D48-AB1B-890A92CF60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14786-C22C-45ED-AB00-BB919F60FC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C44DE-A4EE-48B1-98BA-70D43BB2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68CCB-11F9-4335-958B-BBED5793B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FBE96-7A1C-4105-898D-2E69F9B1EA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5656B-BBCF-467F-B5DE-FCA98E146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7C55B-B936-48FE-9256-96CB93C33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C1851-C0C4-4190-9F0B-2ED2A7F6E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DA14C-93A5-4EDD-BDE4-0202DF811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676E6-14F6-4588-893E-743944D6F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30D58-211F-4738-AB14-A71C03796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1D00DB-27CD-4EA7-8BA0-0288E6BA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6141F-B782-4F7C-9667-FC25683F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6CD1-187E-43E3-9648-5F5086B57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DE5E3-7F39-42BA-85C4-5B23647CC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03DC0-C7E8-4068-8F83-DA8A815AD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DFC7-24C7-43A0-B7F0-C6ADC9B31D5B}"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C0F3-A0E1-481C-BB71-4748116B56AE}"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698"/>
                </a:solidFill>
                <a:latin typeface="Trebuchet MS"/>
              </a:rPr>
              <a:t>Reclaiming Former Members</a:t>
            </a:r>
            <a:endParaRPr b="1" lang="en-US" sz="4400" spc="-1" strike="noStrike">
              <a:solidFill>
                <a:srgbClr val="dde3dc"/>
              </a:solidFill>
              <a:latin typeface="Trebuchet MS"/>
            </a:endParaRPr>
          </a:p>
        </p:txBody>
      </p:sp>
      <p:sp>
        <p:nvSpPr>
          <p:cNvPr id="90" name="PlaceHolder 2"/>
          <p:cNvSpPr>
            <a:spLocks noGrp="1"/>
          </p:cNvSpPr>
          <p:nvPr>
            <p:ph/>
          </p:nvPr>
        </p:nvSpPr>
        <p:spPr>
          <a:xfrm>
            <a:off x="3657240" y="3809880"/>
            <a:ext cx="5257800" cy="274320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By Carla Baker</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Leadership Certification Course Level 2</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Women’s Ministries </a:t>
            </a:r>
            <a:endParaRPr b="0" lang="en-US" sz="2800" spc="-1" strike="noStrike">
              <a:solidFill>
                <a:srgbClr val="dde3dc"/>
              </a:solidFill>
              <a:latin typeface="Trebuchet MS"/>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General Conference</a:t>
            </a:r>
            <a:endParaRPr b="0" lang="en-US" sz="28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0" y="0"/>
            <a:ext cx="336852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440" y="761760"/>
            <a:ext cx="8077320" cy="563868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Event coordinator—Should possess the gifts of hospitality and administration to coordinate social events and meetings to which the missing members will be invited.</a:t>
            </a:r>
            <a:endParaRPr b="0" lang="en-US" sz="3400" spc="-1" strike="noStrike">
              <a:solidFill>
                <a:srgbClr val="dde3dc"/>
              </a:solidFill>
              <a:latin typeface="Trebuchet MS"/>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Mentors—Women who will make contact with the women to be reclaimed and literally love them back into the church.</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7"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eneral Guidelines</a:t>
            </a:r>
            <a:endParaRPr b="1" lang="en-US" sz="4400" spc="-1" strike="noStrike">
              <a:solidFill>
                <a:srgbClr val="dde3dc"/>
              </a:solidFill>
              <a:latin typeface="Trebuchet MS"/>
            </a:endParaRPr>
          </a:p>
        </p:txBody>
      </p:sp>
      <p:sp>
        <p:nvSpPr>
          <p:cNvPr id="109" name="PlaceHolder 2"/>
          <p:cNvSpPr>
            <a:spLocks noGrp="1"/>
          </p:cNvSpPr>
          <p:nvPr>
            <p:ph/>
          </p:nvPr>
        </p:nvSpPr>
        <p:spPr>
          <a:xfrm>
            <a:off x="3429000" y="1676520"/>
            <a:ext cx="5486400" cy="4952880"/>
          </a:xfrm>
          <a:prstGeom prst="rect">
            <a:avLst/>
          </a:prstGeom>
          <a:noFill/>
          <a:ln w="0">
            <a:noFill/>
          </a:ln>
        </p:spPr>
        <p:txBody>
          <a:bodyPr lIns="90000" rIns="90000" tIns="46800" bIns="46800" anchor="t">
            <a:normAutofit/>
          </a:bodyPr>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Always include a prayer session in each meeting </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Spend part of each meeting hearing reports from mentors</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Report to the data coordinator contacts made by the mentors.</a:t>
            </a:r>
            <a:endParaRPr b="0" lang="en-US" sz="3000" spc="-1" strike="noStrike">
              <a:solidFill>
                <a:srgbClr val="dde3dc"/>
              </a:solidFill>
              <a:latin typeface="Trebuchet MS"/>
            </a:endParaRPr>
          </a:p>
          <a:p>
            <a:pPr marL="343080" indent="-343080">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fore ending, make plans for the next meeting</a:t>
            </a:r>
            <a:endParaRPr b="0" lang="en-US" sz="3000" spc="-1" strike="noStrike">
              <a:solidFill>
                <a:srgbClr val="dde3dc"/>
              </a:solidFill>
              <a:latin typeface="Trebuchet MS"/>
            </a:endParaRPr>
          </a:p>
        </p:txBody>
      </p:sp>
      <p:pic>
        <p:nvPicPr>
          <p:cNvPr id="110" name="" descr=""/>
          <p:cNvPicPr/>
          <p:nvPr/>
        </p:nvPicPr>
        <p:blipFill>
          <a:blip r:embed="rId2"/>
          <a:stretch/>
        </p:blipFill>
        <p:spPr>
          <a:xfrm>
            <a:off x="533520" y="3808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52320" y="304560"/>
            <a:ext cx="579132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00698"/>
                </a:solidFill>
                <a:latin typeface="Trebuchet MS"/>
              </a:rPr>
              <a:t>An effective ministry team needs to do the following:</a:t>
            </a:r>
            <a:endParaRPr b="1" lang="en-US" sz="3400" spc="-1" strike="noStrike">
              <a:solidFill>
                <a:srgbClr val="dde3dc"/>
              </a:solidFill>
              <a:latin typeface="Trebuchet MS"/>
            </a:endParaRPr>
          </a:p>
        </p:txBody>
      </p:sp>
      <p:sp>
        <p:nvSpPr>
          <p:cNvPr id="112"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ffirm the leader and support her</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stablish clear lines of communicatio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 boundari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al with conflicts that may arise</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609480" y="990720"/>
            <a:ext cx="2362320" cy="285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inistering  to the Missing</a:t>
            </a:r>
            <a:endParaRPr b="1" lang="en-US" sz="4400" spc="-1" strike="noStrike">
              <a:solidFill>
                <a:srgbClr val="dde3dc"/>
              </a:solidFill>
              <a:latin typeface="Trebuchet MS"/>
            </a:endParaRPr>
          </a:p>
        </p:txBody>
      </p:sp>
      <p:sp>
        <p:nvSpPr>
          <p:cNvPr id="115"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rebuchet MS"/>
              </a:rPr>
              <a:t>Areas of focus</a:t>
            </a:r>
            <a:r>
              <a:rPr b="0" lang="en-US" sz="2800" spc="-1" strike="noStrike">
                <a:solidFill>
                  <a:srgbClr val="ffffff"/>
                </a:solidFill>
                <a:latin typeface="Trebuchet MS"/>
              </a:rPr>
              <a:t>:</a:t>
            </a:r>
            <a:endParaRPr b="0" lang="en-US" sz="2800" spc="-1" strike="noStrike">
              <a:solidFill>
                <a:srgbClr val="dde3dc"/>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Reasons women leave the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dentifying women who left the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ing contact with missing members</a:t>
            </a:r>
            <a:endParaRPr b="0" lang="en-US" sz="2800" spc="-1" strike="noStrike">
              <a:solidFill>
                <a:srgbClr val="dde3dc"/>
              </a:solidFill>
              <a:latin typeface="Trebuchet MS"/>
            </a:endParaRPr>
          </a:p>
        </p:txBody>
      </p:sp>
      <p:pic>
        <p:nvPicPr>
          <p:cNvPr id="116" name="" descr=""/>
          <p:cNvPicPr/>
          <p:nvPr/>
        </p:nvPicPr>
        <p:blipFill>
          <a:blip r:embed="rId2"/>
          <a:stretch/>
        </p:blipFill>
        <p:spPr>
          <a:xfrm>
            <a:off x="457200" y="83808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133360" y="457200"/>
            <a:ext cx="7010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Common Reasons Women Stop Attending Church</a:t>
            </a:r>
            <a:endParaRPr b="1" lang="en-US" sz="4400" spc="-1" strike="noStrike">
              <a:solidFill>
                <a:srgbClr val="dde3dc"/>
              </a:solidFill>
              <a:latin typeface="Trebuchet MS"/>
            </a:endParaRPr>
          </a:p>
        </p:txBody>
      </p:sp>
      <p:sp>
        <p:nvSpPr>
          <p:cNvPr id="118"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a:bodyPr>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 with spouse and/or a divorce</a:t>
            </a:r>
            <a:endParaRPr b="0" lang="en-US" sz="24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nflict with other members of the church</a:t>
            </a:r>
            <a:endParaRPr b="0" lang="en-US" sz="24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ove to another town with no follow-up between churches</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king the transition into a new stage of life</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se their connection with God</a:t>
            </a:r>
            <a:endParaRPr b="0" lang="en-US" sz="2400" spc="-1" strike="noStrike">
              <a:solidFill>
                <a:srgbClr val="dde3dc"/>
              </a:solidFill>
              <a:latin typeface="Trebuchet MS"/>
            </a:endParaRPr>
          </a:p>
          <a:p>
            <a:pPr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oneliness and feeling as though they don’t belong.</a:t>
            </a:r>
            <a:endParaRPr b="0" lang="en-US" sz="2400" spc="-1" strike="noStrike">
              <a:solidFill>
                <a:srgbClr val="dde3dc"/>
              </a:solidFill>
              <a:latin typeface="Trebuchet MS"/>
            </a:endParaRPr>
          </a:p>
        </p:txBody>
      </p:sp>
      <p:pic>
        <p:nvPicPr>
          <p:cNvPr id="119"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fontScale="94000"/>
          </a:bodyPr>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Resistance</a:t>
            </a:r>
            <a:r>
              <a:rPr b="0" lang="en-US" sz="2800" spc="-1" strike="noStrike">
                <a:solidFill>
                  <a:srgbClr val="ffffff"/>
                </a:solidFill>
                <a:latin typeface="Trebuchet MS"/>
              </a:rPr>
              <a:t>—Do they really care that I come back?</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spicion—</a:t>
            </a:r>
            <a:r>
              <a:rPr b="0" lang="en-US" sz="2800" spc="-1" strike="noStrike">
                <a:solidFill>
                  <a:srgbClr val="ffffff"/>
                </a:solidFill>
                <a:latin typeface="Trebuchet MS"/>
              </a:rPr>
              <a:t>Am I part of some church project?</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nger</a:t>
            </a:r>
            <a:r>
              <a:rPr b="0" lang="en-US" sz="2800" spc="-1" strike="noStrike">
                <a:solidFill>
                  <a:srgbClr val="ffffff"/>
                </a:solidFill>
                <a:latin typeface="Trebuchet MS"/>
              </a:rPr>
              <a:t>—I don’t want to talk to you!</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Surprise</a:t>
            </a:r>
            <a:r>
              <a:rPr b="0" lang="en-US" sz="2800" spc="-1" strike="noStrike">
                <a:solidFill>
                  <a:srgbClr val="ffffff"/>
                </a:solidFill>
                <a:latin typeface="Trebuchet MS"/>
              </a:rPr>
              <a:t>—You’re the first person who has contacted me since I left.</a:t>
            </a:r>
            <a:endParaRPr b="0" lang="en-US" sz="2800" spc="-1" strike="noStrike">
              <a:solidFill>
                <a:srgbClr val="dde3dc"/>
              </a:solidFill>
              <a:latin typeface="Trebuchet MS"/>
            </a:endParaRPr>
          </a:p>
          <a:p>
            <a:pPr marL="3222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22200" indent="-32220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Hesitation</a:t>
            </a:r>
            <a:r>
              <a:rPr b="0" lang="en-US" sz="2800" spc="-1" strike="noStrike">
                <a:solidFill>
                  <a:srgbClr val="ffffff"/>
                </a:solidFill>
                <a:latin typeface="Trebuchet MS"/>
              </a:rPr>
              <a:t>—What do you want?  Money?</a:t>
            </a:r>
            <a:endParaRPr b="0" lang="en-US" sz="2800" spc="-1" strike="noStrike">
              <a:solidFill>
                <a:srgbClr val="dde3dc"/>
              </a:solidFill>
              <a:latin typeface="Trebuchet MS"/>
            </a:endParaRPr>
          </a:p>
        </p:txBody>
      </p:sp>
      <p:sp>
        <p:nvSpPr>
          <p:cNvPr id="121" name=""/>
          <p:cNvSpPr/>
          <p:nvPr/>
        </p:nvSpPr>
        <p:spPr>
          <a:xfrm>
            <a:off x="380880" y="762120"/>
            <a:ext cx="8229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Emotions You Might Encounter</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The Healing Process</a:t>
            </a:r>
            <a:endParaRPr b="1" lang="en-US" sz="4400" spc="-1" strike="noStrike">
              <a:solidFill>
                <a:srgbClr val="dde3dc"/>
              </a:solidFill>
              <a:latin typeface="Trebuchet MS"/>
            </a:endParaRPr>
          </a:p>
        </p:txBody>
      </p:sp>
      <p:sp>
        <p:nvSpPr>
          <p:cNvPr id="123"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Areas of Focus:</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arning to be a more effective listener</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ow to show you care for the women who have stopped attending church</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ow to minister to the needs of women who no longer attend church</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aking Friend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come genuinely interested in he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Smile often.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Remember names of people in whom she is interested.</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Talk about her interest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 sure she understands how important she is to you.</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Be a good listener.</a:t>
            </a:r>
            <a:endParaRPr b="0" lang="en-US" sz="2800" spc="-1" strike="noStrike">
              <a:solidFill>
                <a:srgbClr val="dde3dc"/>
              </a:solidFill>
              <a:latin typeface="Trebuchet MS"/>
            </a:endParaRPr>
          </a:p>
        </p:txBody>
      </p:sp>
      <p:pic>
        <p:nvPicPr>
          <p:cNvPr id="126" name="" descr=""/>
          <p:cNvPicPr/>
          <p:nvPr/>
        </p:nvPicPr>
        <p:blipFill>
          <a:blip r:embed="rId2"/>
          <a:stretch/>
        </p:blipFill>
        <p:spPr>
          <a:xfrm>
            <a:off x="533520" y="45720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Making Friends</a:t>
            </a:r>
            <a:endParaRPr b="1" lang="en-US" sz="4400" spc="-1" strike="noStrike">
              <a:solidFill>
                <a:srgbClr val="dde3dc"/>
              </a:solidFill>
              <a:latin typeface="Trebuchet MS"/>
            </a:endParaRPr>
          </a:p>
        </p:txBody>
      </p:sp>
      <p:sp>
        <p:nvSpPr>
          <p:cNvPr id="128"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Keep confidences as a sacred trust.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You are not there to talk, scold, beg, or plead.</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n’t be defensive.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ow empathy. </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Have an open, honest, accepting attitude.</a:t>
            </a:r>
            <a:endParaRPr b="0" lang="en-US" sz="2800" spc="-1" strike="noStrike">
              <a:solidFill>
                <a:srgbClr val="dde3dc"/>
              </a:solidFill>
              <a:latin typeface="Trebuchet MS"/>
            </a:endParaRPr>
          </a:p>
          <a:p>
            <a:pPr>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ke things slowly</a:t>
            </a:r>
            <a:r>
              <a:rPr b="0" lang="en-US" sz="3600" spc="-1" strike="noStrike">
                <a:solidFill>
                  <a:srgbClr val="7a8e72"/>
                </a:solidFill>
                <a:latin typeface="Trebuchet MS"/>
              </a:rPr>
              <a:t>.</a:t>
            </a:r>
            <a:r>
              <a:rPr b="0" lang="en-US" sz="3600" spc="-1" strike="noStrike">
                <a:solidFill>
                  <a:srgbClr val="dde3dc"/>
                </a:solidFill>
                <a:latin typeface="Trebuchet MS"/>
              </a:rPr>
              <a:t>  </a:t>
            </a:r>
            <a:endParaRPr b="0" lang="en-US" sz="3600" spc="-1" strike="noStrike">
              <a:solidFill>
                <a:srgbClr val="dde3dc"/>
              </a:solidFill>
              <a:latin typeface="Trebuchet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pic>
        <p:nvPicPr>
          <p:cNvPr id="129" name="" descr=""/>
          <p:cNvPicPr/>
          <p:nvPr/>
        </p:nvPicPr>
        <p:blipFill>
          <a:blip r:embed="rId2"/>
          <a:stretch/>
        </p:blipFill>
        <p:spPr>
          <a:xfrm flipH="1">
            <a:off x="456840" y="457200"/>
            <a:ext cx="1297080" cy="21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533160"/>
            <a:ext cx="7620120" cy="5715000"/>
          </a:xfrm>
          <a:prstGeom prst="rect">
            <a:avLst/>
          </a:prstGeom>
          <a:noFill/>
          <a:ln w="0">
            <a:noFill/>
          </a:ln>
        </p:spPr>
        <p:txBody>
          <a:bodyPr lIns="90000" rIns="90000" tIns="46800" bIns="4680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100698"/>
                </a:solidFill>
                <a:latin typeface="Trebuchet MS"/>
              </a:rPr>
              <a:t>“</a:t>
            </a:r>
            <a:r>
              <a:rPr b="1" lang="en-US" sz="3400" spc="-1" strike="noStrike">
                <a:solidFill>
                  <a:srgbClr val="100698"/>
                </a:solidFill>
                <a:latin typeface="Trebuchet MS"/>
              </a:rPr>
              <a:t>Suppose one of you has a hundred sheep and loses one of them.  Does he not leave the ninety-nine in the open country and go after the lost sheep until he finds it?  And when he finds it, he joyfully puts it on his shoulders and goes home.   Then he calls his friends and neighbors together and says, ‘Rejoice with me; I have found my lost sheep.’”</a:t>
            </a:r>
            <a:r>
              <a:rPr b="1" lang="en-US" sz="3200" spc="-1" strike="noStrike">
                <a:solidFill>
                  <a:srgbClr val="100698"/>
                </a:solidFill>
                <a:latin typeface="Trebuchet MS"/>
              </a:rPr>
              <a:t>  </a:t>
            </a:r>
            <a:r>
              <a:rPr b="1" i="1" lang="en-US" sz="2800" spc="-1" strike="noStrike">
                <a:solidFill>
                  <a:srgbClr val="100698"/>
                </a:solidFill>
                <a:latin typeface="Trebuchet MS"/>
              </a:rPr>
              <a:t>Luke 15:4-6 (NI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6858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Ways to Show You Care</a:t>
            </a:r>
            <a:endParaRPr b="1" lang="en-US" sz="4400" spc="-1" strike="noStrike">
              <a:solidFill>
                <a:srgbClr val="dde3dc"/>
              </a:solidFill>
              <a:latin typeface="Trebuchet MS"/>
            </a:endParaRPr>
          </a:p>
        </p:txBody>
      </p:sp>
      <p:sp>
        <p:nvSpPr>
          <p:cNvPr id="131" name="PlaceHolder 2"/>
          <p:cNvSpPr>
            <a:spLocks noGrp="1"/>
          </p:cNvSpPr>
          <p:nvPr>
            <p:ph/>
          </p:nvPr>
        </p:nvSpPr>
        <p:spPr>
          <a:xfrm>
            <a:off x="762120" y="1676520"/>
            <a:ext cx="7315200" cy="4572000"/>
          </a:xfrm>
          <a:prstGeom prst="rect">
            <a:avLst/>
          </a:prstGeom>
          <a:noFill/>
          <a:ln w="0">
            <a:noFill/>
          </a:ln>
        </p:spPr>
        <p:txBody>
          <a:bodyPr lIns="90000" rIns="90000" tIns="46800" bIns="46800" anchor="t">
            <a:normAutofit/>
          </a:bodyPr>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t “drop in” uninvited.  </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eet her for lunch as your treat.</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ave a positive, supporting attitude.</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 her personal space. </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nd out if there is anything you can do for her personally.</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member to spend much time </a:t>
            </a:r>
            <a:r>
              <a:rPr b="0" i="1" lang="en-US" sz="3200" spc="-1" strike="noStrike">
                <a:solidFill>
                  <a:srgbClr val="ffffff"/>
                </a:solidFill>
                <a:latin typeface="Trebuchet MS"/>
              </a:rPr>
              <a:t>listening</a:t>
            </a:r>
            <a:r>
              <a:rPr b="0" lang="en-US" sz="3200" spc="-1" strike="noStrike">
                <a:solidFill>
                  <a:srgbClr val="ffffff"/>
                </a:solidFill>
                <a:latin typeface="Trebuchet MS"/>
              </a:rPr>
              <a:t>!</a:t>
            </a:r>
            <a:endParaRPr b="0" lang="en-US" sz="32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rebuchet MS"/>
              </a:rPr>
              <a:t>Areas of focus:</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uilding trust in your relationships with women who no longer attend church</a:t>
            </a:r>
            <a:endParaRPr b="0" lang="en-US" sz="2800" spc="-1" strike="noStrike">
              <a:solidFill>
                <a:srgbClr val="dde3dc"/>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Knowing when and how to share your faith with women who are not attending church</a:t>
            </a:r>
            <a:endParaRPr b="0" lang="en-US" sz="2800" spc="-1" strike="noStrike">
              <a:solidFill>
                <a:srgbClr val="dde3dc"/>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women you are mentoring to join a Bible study or small group</a:t>
            </a:r>
            <a:endParaRPr b="0" lang="en-US" sz="2800" spc="-1" strike="noStrike">
              <a:solidFill>
                <a:srgbClr val="dde3dc"/>
              </a:solidFill>
              <a:latin typeface="Trebuchet MS"/>
            </a:endParaRPr>
          </a:p>
        </p:txBody>
      </p:sp>
      <p:sp>
        <p:nvSpPr>
          <p:cNvPr id="133" name=""/>
          <p:cNvSpPr/>
          <p:nvPr/>
        </p:nvSpPr>
        <p:spPr>
          <a:xfrm>
            <a:off x="914400" y="609480"/>
            <a:ext cx="6705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Building Trust and Faith</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Qualities of a Friend</a:t>
            </a:r>
            <a:endParaRPr b="1" lang="en-US" sz="4400" spc="-1" strike="noStrike">
              <a:solidFill>
                <a:srgbClr val="dde3dc"/>
              </a:solidFill>
              <a:latin typeface="Trebuchet MS"/>
            </a:endParaRPr>
          </a:p>
        </p:txBody>
      </p:sp>
      <p:sp>
        <p:nvSpPr>
          <p:cNvPr id="135"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fontScale="93000"/>
          </a:bodyPr>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on’t lie to you</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s your boundaries</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spects our decisions</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pholds your dignity and worth</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ants the best for you</a:t>
            </a:r>
            <a:endParaRPr b="0" lang="en-US" sz="3200" spc="-1" strike="noStrike">
              <a:solidFill>
                <a:srgbClr val="dde3dc"/>
              </a:solidFill>
              <a:latin typeface="Trebuchet MS"/>
            </a:endParaRPr>
          </a:p>
          <a:p>
            <a:pPr marL="318960" indent="-31896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nors your confidences </a:t>
            </a:r>
            <a:endParaRPr b="0" lang="en-US" sz="3200" spc="-1" strike="noStrike">
              <a:solidFill>
                <a:srgbClr val="dde3dc"/>
              </a:solidFill>
              <a:latin typeface="Trebuchet MS"/>
            </a:endParaRPr>
          </a:p>
        </p:txBody>
      </p:sp>
      <p:pic>
        <p:nvPicPr>
          <p:cNvPr id="136" name="" descr=""/>
          <p:cNvPicPr/>
          <p:nvPr/>
        </p:nvPicPr>
        <p:blipFill>
          <a:blip r:embed="rId2"/>
          <a:stretch/>
        </p:blipFill>
        <p:spPr>
          <a:xfrm>
            <a:off x="533520" y="1219320"/>
            <a:ext cx="2201760" cy="3043080"/>
          </a:xfrm>
          <a:prstGeom prst="rect">
            <a:avLst/>
          </a:prstGeom>
          <a:ln w="0">
            <a:noFill/>
          </a:ln>
        </p:spPr>
      </p:pic>
      <p:pic>
        <p:nvPicPr>
          <p:cNvPr id="137" name="" descr=""/>
          <p:cNvPicPr/>
          <p:nvPr/>
        </p:nvPicPr>
        <p:blipFill>
          <a:blip r:embed="rId3"/>
          <a:stretch/>
        </p:blipFill>
        <p:spPr>
          <a:xfrm>
            <a:off x="7543800" y="380880"/>
            <a:ext cx="1447920" cy="1138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Other Factors to Consider</a:t>
            </a:r>
            <a:endParaRPr b="1" lang="en-US" sz="4400" spc="-1" strike="noStrike">
              <a:solidFill>
                <a:srgbClr val="dde3dc"/>
              </a:solidFill>
              <a:latin typeface="Trebuchet MS"/>
            </a:endParaRPr>
          </a:p>
        </p:txBody>
      </p:sp>
      <p:sp>
        <p:nvSpPr>
          <p:cNvPr id="139" name="PlaceHolder 2"/>
          <p:cNvSpPr>
            <a:spLocks noGrp="1"/>
          </p:cNvSpPr>
          <p:nvPr>
            <p:ph/>
          </p:nvPr>
        </p:nvSpPr>
        <p:spPr>
          <a:xfrm>
            <a:off x="609480" y="1676520"/>
            <a:ext cx="746784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e woman you are mentoring most likely still believes Adventist teaching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does not need lectures about standard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may have been hurt by the church or by another Adventist.</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may have done something that she feels God cannot forgive her fo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he will not share her true feelings until she trusts you.</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440" y="1523520"/>
            <a:ext cx="8077320" cy="4953240"/>
          </a:xfrm>
          <a:prstGeom prst="rect">
            <a:avLst/>
          </a:prstGeom>
          <a:noFill/>
          <a:ln w="0">
            <a:noFill/>
          </a:ln>
        </p:spPr>
        <p:txBody>
          <a:bodyPr lIns="90000" rIns="90000" tIns="46800" bIns="46800" anchor="t">
            <a:normAutofit/>
          </a:bodyPr>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void arguing.</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not get sidetracked by doctrinal issues if her relationship with the Lord is shaky.</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alk in terms of her “needs.”</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ell your own story of conversion or falling in love with the Lord.</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 </a:t>
            </a:r>
            <a:r>
              <a:rPr b="0" i="1" lang="en-US" sz="2800" spc="-1" strike="noStrike">
                <a:solidFill>
                  <a:srgbClr val="ffffff"/>
                </a:solidFill>
                <a:latin typeface="Trebuchet MS"/>
              </a:rPr>
              <a:t>not</a:t>
            </a:r>
            <a:r>
              <a:rPr b="0" lang="en-US" sz="2800" spc="-1" strike="noStrike">
                <a:solidFill>
                  <a:srgbClr val="ffffff"/>
                </a:solidFill>
                <a:latin typeface="Trebuchet MS"/>
              </a:rPr>
              <a:t> push her.</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e kind and compassionate.</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rop the issue if she doesn’t want to discuss it.</a:t>
            </a:r>
            <a:endParaRPr b="0" lang="en-US" sz="2800" spc="-1" strike="noStrike">
              <a:solidFill>
                <a:srgbClr val="dde3dc"/>
              </a:solidFill>
              <a:latin typeface="Trebuchet MS"/>
            </a:endParaRPr>
          </a:p>
        </p:txBody>
      </p:sp>
      <p:sp>
        <p:nvSpPr>
          <p:cNvPr id="141" name=""/>
          <p:cNvSpPr/>
          <p:nvPr/>
        </p:nvSpPr>
        <p:spPr>
          <a:xfrm>
            <a:off x="762120" y="609480"/>
            <a:ext cx="701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Ways to Share Your Faith</a:t>
            </a:r>
            <a:endParaRPr b="0" lang="en-US" sz="4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504960" y="990360"/>
            <a:ext cx="563868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Renewing a Commitment to Christ</a:t>
            </a:r>
            <a:endParaRPr b="1" lang="en-US" sz="4400" spc="-1" strike="noStrike">
              <a:solidFill>
                <a:srgbClr val="dde3dc"/>
              </a:solidFill>
              <a:latin typeface="Trebuchet MS"/>
            </a:endParaRPr>
          </a:p>
        </p:txBody>
      </p:sp>
      <p:sp>
        <p:nvSpPr>
          <p:cNvPr id="143" name="PlaceHolder 2"/>
          <p:cNvSpPr>
            <a:spLocks noGrp="1"/>
          </p:cNvSpPr>
          <p:nvPr>
            <p:ph type="subTitle"/>
          </p:nvPr>
        </p:nvSpPr>
        <p:spPr>
          <a:xfrm>
            <a:off x="3580920" y="2895480"/>
            <a:ext cx="3048120" cy="60984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rebuchet MS"/>
              </a:rPr>
              <a:t>Areas of focus:</a:t>
            </a:r>
            <a:endParaRPr b="0" lang="en-US" sz="3200" spc="-1" strike="noStrike">
              <a:solidFill>
                <a:srgbClr val="dde3dc"/>
              </a:solidFill>
              <a:latin typeface="Trebuchet MS"/>
            </a:endParaRPr>
          </a:p>
        </p:txBody>
      </p:sp>
      <p:sp>
        <p:nvSpPr>
          <p:cNvPr id="144" name=""/>
          <p:cNvSpPr/>
          <p:nvPr/>
        </p:nvSpPr>
        <p:spPr>
          <a:xfrm>
            <a:off x="3733920" y="3503520"/>
            <a:ext cx="4952880" cy="37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your friend to attend church on Sabbath</a:t>
            </a:r>
            <a:endParaRPr b="0" lang="en-US" sz="2800" spc="-1" strike="noStrike">
              <a:solidFill>
                <a:srgbClr val="dde3d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ing your friend to an evangelistic meeting</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lanning events to welcome </a:t>
            </a:r>
            <a:endParaRPr b="0" lang="en-US" sz="2800" spc="-1" strike="noStrike">
              <a:solidFill>
                <a:srgbClr val="dde3d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former members back to church</a:t>
            </a:r>
            <a:r>
              <a:rPr b="0" lang="en-US" sz="2400" spc="-1" strike="noStrike">
                <a:solidFill>
                  <a:srgbClr val="ffffff"/>
                </a:solidFill>
                <a:latin typeface="Trebuchet MS"/>
              </a:rPr>
              <a:t> </a:t>
            </a:r>
            <a:endParaRPr b="0" lang="en-US" sz="2400" spc="-1" strike="noStrike">
              <a:solidFill>
                <a:srgbClr val="dde3dc"/>
              </a:solidFill>
              <a:latin typeface="Times New Roman"/>
            </a:endParaRPr>
          </a:p>
        </p:txBody>
      </p:sp>
      <p:pic>
        <p:nvPicPr>
          <p:cNvPr id="145" name="" descr=""/>
          <p:cNvPicPr/>
          <p:nvPr/>
        </p:nvPicPr>
        <p:blipFill>
          <a:blip r:embed="rId2"/>
          <a:stretch/>
        </p:blipFill>
        <p:spPr>
          <a:xfrm>
            <a:off x="1066680" y="243828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762120"/>
            <a:ext cx="708660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oing Back to Church</a:t>
            </a:r>
            <a:endParaRPr b="1" lang="en-US" sz="4400" spc="-1" strike="noStrike">
              <a:solidFill>
                <a:srgbClr val="dde3dc"/>
              </a:solidFill>
              <a:latin typeface="Trebuchet MS"/>
            </a:endParaRPr>
          </a:p>
        </p:txBody>
      </p:sp>
      <p:sp>
        <p:nvSpPr>
          <p:cNvPr id="147" name="PlaceHolder 2"/>
          <p:cNvSpPr>
            <a:spLocks noGrp="1"/>
          </p:cNvSpPr>
          <p:nvPr>
            <p:ph/>
          </p:nvPr>
        </p:nvSpPr>
        <p:spPr>
          <a:xfrm>
            <a:off x="685440" y="1828440"/>
            <a:ext cx="7620120" cy="441972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ffer to pick her up and take her to church.</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rain greeters to warmly welcome former members without questioning them about their absence.</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e her to join your Sabbath School clas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on’t ask her to stand and introduce herself or wear a “visitor” sticker.</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vite her and her family home for Sabbath dinner.</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Follow-up Meetings</a:t>
            </a:r>
            <a:endParaRPr b="1" lang="en-US" sz="4400" spc="-1" strike="noStrike">
              <a:solidFill>
                <a:srgbClr val="dde3dc"/>
              </a:solidFill>
              <a:latin typeface="Trebuchet MS"/>
            </a:endParaRPr>
          </a:p>
        </p:txBody>
      </p:sp>
      <p:sp>
        <p:nvSpPr>
          <p:cNvPr id="149"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5000"/>
          </a:bodyPr>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Nurturing and discipling the women who have returned to church to prevent them from leaving again</a:t>
            </a:r>
            <a:endParaRPr b="0" lang="en-US" sz="32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ing these newly-returned women in ministry</a:t>
            </a:r>
            <a:endParaRPr b="0" lang="en-US" sz="3200" spc="-1" strike="noStrike">
              <a:solidFill>
                <a:srgbClr val="dde3dc"/>
              </a:solidFill>
              <a:latin typeface="Trebuchet MS"/>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aising God for His blessings in </a:t>
            </a:r>
            <a:endParaRPr b="0" lang="en-US" sz="3200" spc="-1" strike="noStrike">
              <a:solidFill>
                <a:srgbClr val="dde3dc"/>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your ministry</a:t>
            </a:r>
            <a:endParaRPr b="0" lang="en-US" sz="3200" spc="-1" strike="noStrike">
              <a:solidFill>
                <a:srgbClr val="dde3dc"/>
              </a:solidFill>
              <a:latin typeface="Trebuchet MS"/>
            </a:endParaRPr>
          </a:p>
        </p:txBody>
      </p:sp>
      <p:pic>
        <p:nvPicPr>
          <p:cNvPr id="150" name="" descr=""/>
          <p:cNvPicPr/>
          <p:nvPr/>
        </p:nvPicPr>
        <p:blipFill>
          <a:blip r:embed="rId2"/>
          <a:stretch/>
        </p:blipFill>
        <p:spPr>
          <a:xfrm>
            <a:off x="533520" y="533520"/>
            <a:ext cx="1152360" cy="204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6840" y="533520"/>
            <a:ext cx="7620120" cy="586728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a:t>
            </a:r>
            <a:r>
              <a:rPr b="1" lang="en-US" sz="3600" spc="-1" strike="noStrike">
                <a:solidFill>
                  <a:srgbClr val="ffffff"/>
                </a:solidFill>
                <a:latin typeface="Trebuchet MS"/>
              </a:rPr>
              <a:t>Or suppose a woman has ten silver coins and loses one.  Does she not light a lamp, sweep the house and search carefully until she finds it?  And when she finds it, she calls her friends and neighbors together and says, ‘Rejoice with me; I have found my lost coin.’”</a:t>
            </a:r>
            <a:endParaRPr b="0" lang="en-US" sz="3600" spc="-1" strike="noStrike">
              <a:solidFill>
                <a:srgbClr val="dde3dc"/>
              </a:solidFill>
              <a:latin typeface="Trebuchet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Luke 15:8, 9 (NI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00698"/>
                </a:solidFill>
                <a:latin typeface="Trebuchet MS"/>
              </a:rPr>
              <a:t>“</a:t>
            </a:r>
            <a:r>
              <a:rPr b="1" lang="en-US" sz="4000" spc="-1" strike="noStrike">
                <a:solidFill>
                  <a:srgbClr val="100698"/>
                </a:solidFill>
                <a:latin typeface="Trebuchet MS"/>
              </a:rPr>
              <a:t>In the same way, I tell you, there is rejoicing in the presence of the angels of God over one sinner who repents.”</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0698"/>
                </a:solidFill>
                <a:latin typeface="Trebuchet MS"/>
              </a:rPr>
              <a:t>Luke 15:10 (NI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762120" y="609480"/>
            <a:ext cx="7010280" cy="577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times it only takes one contact to bring back a missing member.</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missing members, however, need time to heal, time to know the church cares, and time to grow in their relationship with God and other members.</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ly, the longer a person has been away from church, the longer it will take to win them back.</a:t>
            </a: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former members do not feel that they have left God, only the church.</a:t>
            </a:r>
            <a:endParaRPr b="0" lang="en-US" sz="2400" spc="-1" strike="noStrike">
              <a:solidFill>
                <a:srgbClr val="dde3dc"/>
              </a:solidFill>
              <a:latin typeface="Times New Roman"/>
            </a:endParaRPr>
          </a:p>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Getting Started</a:t>
            </a:r>
            <a:endParaRPr b="1" lang="en-US" sz="4400" spc="-1" strike="noStrike">
              <a:solidFill>
                <a:srgbClr val="dde3dc"/>
              </a:solidFill>
              <a:latin typeface="Trebuchet MS"/>
            </a:endParaRPr>
          </a:p>
        </p:txBody>
      </p:sp>
      <p:sp>
        <p:nvSpPr>
          <p:cNvPr id="98"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Talk with the pastor</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 Gather data</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 Talk to the church board</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 Present the plan to the church</a:t>
            </a:r>
            <a:endParaRPr b="0" lang="en-US" sz="3600" spc="-1" strike="noStrike">
              <a:solidFill>
                <a:srgbClr val="dde3dc"/>
              </a:solidFill>
              <a:latin typeface="Trebuchet MS"/>
            </a:endParaRPr>
          </a:p>
          <a:p>
            <a:pPr marL="628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 Form a reclaiming ministry team</a:t>
            </a:r>
            <a:endParaRPr b="0" lang="en-US" sz="3600" spc="-1" strike="noStrike">
              <a:solidFill>
                <a:srgbClr val="dde3dc"/>
              </a:solidFill>
              <a:latin typeface="Trebuchet MS"/>
            </a:endParaRPr>
          </a:p>
        </p:txBody>
      </p:sp>
      <p:pic>
        <p:nvPicPr>
          <p:cNvPr id="99"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1"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00698"/>
                </a:solidFill>
                <a:latin typeface="Trebuchet MS"/>
              </a:rPr>
              <a:t>Reclaiming Ministries Team</a:t>
            </a:r>
            <a:endParaRPr b="1" lang="en-US" sz="4400" spc="-1" strike="noStrike">
              <a:solidFill>
                <a:srgbClr val="dde3dc"/>
              </a:solidFill>
              <a:latin typeface="Trebuchet MS"/>
            </a:endParaRPr>
          </a:p>
        </p:txBody>
      </p:sp>
      <p:sp>
        <p:nvSpPr>
          <p:cNvPr id="103"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8000"/>
          </a:bodyPr>
          <a:p>
            <a:pPr>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Ministry Leader—A woman who has a vision for reclaiming and posses the spiritual gift of leadership</a:t>
            </a:r>
            <a:endParaRPr b="0" lang="en-US" sz="3400" spc="-1" strike="noStrike">
              <a:solidFill>
                <a:srgbClr val="dde3dc"/>
              </a:solidFill>
              <a:latin typeface="Trebuchet MS"/>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Bible Study Leader—A woman with the gift of teaching and the ability to lead a small groups through Bible studie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440" y="761760"/>
            <a:ext cx="8077320" cy="5638680"/>
          </a:xfrm>
          <a:prstGeom prst="rect">
            <a:avLst/>
          </a:prstGeom>
          <a:noFill/>
          <a:ln w="0">
            <a:noFill/>
          </a:ln>
        </p:spPr>
        <p:txBody>
          <a:bodyPr lIns="90000" rIns="90000" tIns="46800" bIns="46800" anchor="t">
            <a:normAutofit fontScale="99000"/>
          </a:bodyPr>
          <a:p>
            <a:pPr marL="339480" indent="-3394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Assistant Ministry Leader—Should have administrative gifts and assist the leader, helping to manage the details of the reclaiming ministry.</a:t>
            </a:r>
            <a:endParaRPr b="0" lang="en-US" sz="3400" spc="-1" strike="noStrike">
              <a:solidFill>
                <a:srgbClr val="dde3dc"/>
              </a:solidFill>
              <a:latin typeface="Trebuchet MS"/>
            </a:endParaRPr>
          </a:p>
          <a:p>
            <a:pPr marL="3394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marL="339480" indent="-3394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Data Coordinator (record keeper)—A person gifted in details who will enter names into a database and keep track of the progress of each missing member who is being mentored.</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Melanie Strahle</cp:lastModifiedBy>
  <dcterms:modified xsi:type="dcterms:W3CDTF">2006-04-13T17:22:32Z</dcterms:modified>
  <cp:revision>21</cp:revision>
  <dc:subject/>
  <dc:title>Reclaiming Former Members</dc:title>
</cp:coreProperties>
</file>